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685-D766-42E1-B124-55544DD7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3FB-A216-4ECF-9AAD-E26AEF12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3B2-B4E9-4A37-83FF-7B272F31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174-AD85-4D3F-878A-092435F7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515DA-17D7-4A2D-BB1A-6FEBCF1C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E63FE-4D64-4654-8950-27CB0FF6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DD375-EFCB-486A-B2FB-EA89AB70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4E00C-CBEE-4EAD-94F0-B3F3548E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5EF12-0927-4C7C-BDF9-21ACB9CA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2DCD5-6C3E-4983-8241-4362A6D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9C056-45C6-4897-B202-1F7292BC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C5E-0595-484E-A970-00989C1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32B01-4A6F-42B0-9656-34513C8E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7705F-F4E5-4BF1-9A20-C958D68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9CBB6-5A11-466B-A44F-DAC6B713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60581-85CE-4619-A30A-F7553923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423CD-DE05-4F06-B1EA-3D515D91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38C-EB96-48D5-9A10-63032B8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7B9-B915-4A08-8155-E6831295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CE8-4990-4A01-A144-2F3F4E70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412-25A6-4CD4-A9DA-127BC8C7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7D5-E5B9-4DAD-9E5C-64BC2B2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291-46FA-4481-B50B-6DB1154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8C6-1047-4DB9-B90E-650FE14C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077E-9437-44B4-B8F3-1732CE070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6747-8E18-4045-8F38-BAF158B92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cionalni program za prevenciju raka grlića materi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istent dr sc. med. Nataša Ranč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Metodologija skrining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rovodi se u vidu organizovanog decentralizovanog skrinin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buhvataju se sve žene starosti 25-69 god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Šalje se poziv na kućnu adresu za testir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Testiranje podrazumeva citološki pregled cervikalnog brisa (Papanikolau tes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krining interval je svake tri god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ljana populacija: žene 25-69 godina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akoj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žen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dostavlja poziv i liflet sa osnovnim podacima o važnosti skrining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ziv s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 potreb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navlj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. p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. 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pidemiološka situ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ma podacima Svetske zdravstvene organizacije, naša zemlja ima najveću stopu incidencije u Evrop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svetu, ovaj karcinom je drugi po učestalosti kod ž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jveći broj obolelih (oko 80%) je iz zemalja u razvo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izovane stope mortaliteta 2 u Siriji, 87.3 na Hait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jvažniji prognostički faktor je stadijum bolesti u momentu dijagno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je od trećine žena javlja se u vreme prvog stadiju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ktori koji utiču na rasprostranjen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estalost infekcija humanim papiloma virusom koji se prenosi seksualnim pu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še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unosupre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ojanj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spešnost skrining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(omogućava se otkrivanje kancera u ranoj fazi ali i prekanceroznih lezija, pa se sprečava i pojava kancer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novni skrining test je Papanikolau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zemljama u kojima se skrining sprovodi decenijama unazad, zabeležen je pad incidencij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mrtno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snovni ciljevi progr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njivanje incidencij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mrtnosti žena od raka grlića mater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fični ciljev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izanje sveti žena o značaju pregle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ezbeđenje podrške programu od strane drž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sanje uloge usta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čanje kapaciteta zdravstvenih usta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postavljanje kontrole kvalit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ljučivanje lokalne zajedn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Upravljanje i koordinacija aktivnostima progra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inistarstvo zdravlja Republike Srb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stitut za javno zdravlje Dr Milan Jovanović Bat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kružni Instituti i Zavo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om zdrav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Organizacija skrining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granizuje dom zdravlja u sardnji sa Institutom/Zavodom za javno zdravl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om zdravlja formira Grupu za koordinaciju skrininga raka grlića mate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va grupa donosi plan za sprovođenje skrinin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49:06Z</dcterms:created>
  <dc:creator>AZURE</dc:creator>
  <dc:description/>
  <dc:language>en-US</dc:language>
  <cp:lastModifiedBy>Intel</cp:lastModifiedBy>
  <dcterms:modified xsi:type="dcterms:W3CDTF">2011-04-11T10:15:35Z</dcterms:modified>
  <cp:revision>9</cp:revision>
  <dc:subject/>
  <dc:title>Nacionalni program ya prevenciju raka grli’a materice</dc:title>
</cp:coreProperties>
</file>